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AF32-6D0E-4B77-A16D-F3899E48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6808-0EB5-440A-ABE9-5ACD5778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7643-1913-4F7A-9FAE-80DFC16A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BD89-3B11-43A4-958C-A0113FAA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8311-37D2-42B0-A365-7A4FB8B4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5252-1C6F-466E-BD54-1D4E639E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DB5B-41E8-4407-A4B3-ED9D76EB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0F0D-3887-4E5C-826D-85591022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172E-C30D-4E98-89A9-65684784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1071-D668-4E56-8CC5-6462270D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7702-9541-41E6-8449-13819B9F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6E1A-0B3D-4E79-A4F0-B2893AD2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2F64-8919-455A-B314-8593B36D6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3880" y="71280"/>
            <a:ext cx="7896240" cy="6715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71640" y="1044720"/>
            <a:ext cx="6480000" cy="49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549360"/>
            <a:ext cx="1439640" cy="495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539720"/>
            <a:ext cx="2700360" cy="202428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7000" y="1539720"/>
            <a:ext cx="3644640" cy="202428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3654360"/>
            <a:ext cx="6480000" cy="297036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97720" y="1852560"/>
            <a:ext cx="719280" cy="58572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97720" y="2484360"/>
            <a:ext cx="719280" cy="49536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2480" y="511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3640" y="1044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4800" y="1590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6120" y="3789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59240" y="1593720"/>
            <a:ext cx="311760" cy="368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9240" y="1776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29240" y="2484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6T11:23:30Z</dcterms:created>
  <dc:creator>Toru Furukawa</dc:creator>
  <dc:description/>
  <dc:language>en-US</dc:language>
  <cp:lastModifiedBy>Toru Furukawa</cp:lastModifiedBy>
  <dcterms:modified xsi:type="dcterms:W3CDTF">2007-05-26T11:49:05Z</dcterms:modified>
  <cp:revision>2</cp:revision>
  <dc:subject/>
  <dc:title>スライド 1</dc:title>
</cp:coreProperties>
</file>