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837BA-9A10-4A38-86C8-3A21BC5A3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823104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5040"/>
            <a:ext cx="823104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4891A-AC04-4A07-8940-E6D4BD89B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96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8D896-B653-4877-AC3B-C5A476144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40360" y="159516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3520" y="159516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504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40360" y="396504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3520" y="396504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9524D-7E97-421C-BD3F-8B37AFB90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5160"/>
            <a:ext cx="82310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AFA02-C191-4267-8828-DE7B10B2E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82310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2DC16-4EB6-4893-A917-EA5FF552F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EA01B-5CA8-400D-A179-996A9566E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E0D40-AAB4-4A37-AE1F-12B023804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31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EB711-05A0-4FA5-B0E7-44D5FAE5F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68EBF-D26B-45C1-8DB3-887985B9A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96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0EAF1-A1C0-4D18-BE0A-A6501032B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823104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B3CF5-B9B3-46D4-9A7D-A93D67794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5160"/>
            <a:ext cx="82310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860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5960" indent="-22860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5960" indent="-22860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5960" indent="-22860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516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51040"/>
            <a:ext cx="28972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51040"/>
            <a:ext cx="213516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408FF-C255-4F3D-ADA3-9E53F293FF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ログインシーケン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09800" y="333360"/>
            <a:ext cx="93672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148360" y="333360"/>
            <a:ext cx="93636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6836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43564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68360" y="12034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276720" y="833400"/>
            <a:ext cx="10080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CP/2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接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268360" y="16318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71640" y="1346040"/>
            <a:ext cx="2305080" cy="2145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-1.99-OpenSSH_4.3p2 Debian-9\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1274760"/>
            <a:ext cx="1440000" cy="357120"/>
          </a:xfrm>
          <a:prstGeom prst="wedgeRoundRectCallout">
            <a:avLst>
              <a:gd name="adj1" fmla="val 80652"/>
              <a:gd name="adj2" fmla="val 15398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ージョン情報交換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268360" y="19890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771640" y="1703520"/>
            <a:ext cx="2305080" cy="2142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-2.0-TTSSH/2.46 Win32\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2268360" y="23464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060720" y="2060640"/>
            <a:ext cx="15098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268360" y="26319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1917720"/>
            <a:ext cx="1440000" cy="428760"/>
          </a:xfrm>
          <a:prstGeom prst="wedgeRoundRectCallout">
            <a:avLst>
              <a:gd name="adj1" fmla="val 80652"/>
              <a:gd name="adj2" fmla="val 10237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キー交換開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2268360" y="30002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700360" y="2703600"/>
            <a:ext cx="2519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_DH_GEX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50920" y="2786040"/>
            <a:ext cx="1439640" cy="428760"/>
          </a:xfrm>
          <a:prstGeom prst="wedgeRoundRectCallout">
            <a:avLst>
              <a:gd name="adj1" fmla="val 70726"/>
              <a:gd name="adj2" fmla="val 12867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DH(Diffie-Hellman)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鍵の生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2268360" y="34290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700360" y="3143160"/>
            <a:ext cx="2519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_DH_GEX_GRO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700360" y="3500280"/>
            <a:ext cx="2519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_DH_GEX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2268360" y="37861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00360" y="3857760"/>
            <a:ext cx="2519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_DH_GEX_REP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2268360" y="41562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052720" y="3000240"/>
            <a:ext cx="144360" cy="1227240"/>
          </a:xfrm>
          <a:custGeom>
            <a:avLst/>
            <a:gdLst>
              <a:gd name="textAreaLeft" fmla="*/ 92160 w 144360"/>
              <a:gd name="textAreaRight" fmla="*/ 144360 w 144360"/>
              <a:gd name="textAreaTop" fmla="*/ 31680 h 1227240"/>
              <a:gd name="textAreaBottom" fmla="*/ 1195560 h 1227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771640" y="4370400"/>
            <a:ext cx="2233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NEWKEY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2268360" y="46562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2268360" y="5013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060720" y="2417760"/>
            <a:ext cx="15098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771640" y="4727520"/>
            <a:ext cx="2233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NEWKEY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08000" y="4727520"/>
            <a:ext cx="1439640" cy="428760"/>
          </a:xfrm>
          <a:prstGeom prst="wedgeRoundRectCallout">
            <a:avLst>
              <a:gd name="adj1" fmla="val 99504"/>
              <a:gd name="adj2" fmla="val -569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H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鍵生成終了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724360" y="5227560"/>
            <a:ext cx="289080" cy="1297080"/>
          </a:xfrm>
          <a:prstGeom prst="downArrow">
            <a:avLst>
              <a:gd name="adj1" fmla="val 50000"/>
              <a:gd name="adj2" fmla="val 112173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084720" y="5299200"/>
            <a:ext cx="2519640" cy="725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これ以降はパケットが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H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鍵（共通鍵）で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暗号化されるため、パケットキャプチャ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不可とな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79280" y="5584680"/>
            <a:ext cx="1440000" cy="439920"/>
          </a:xfrm>
          <a:prstGeom prst="wedgeRoundRectCallout">
            <a:avLst>
              <a:gd name="adj1" fmla="val 94541"/>
              <a:gd name="adj2" fmla="val -4779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ユーザ認証開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771640" y="5299200"/>
            <a:ext cx="2233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SERVICE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2268360" y="55846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771640" y="5656320"/>
            <a:ext cx="2233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SERVICE_ACCEP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268360" y="59529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981080" y="5227560"/>
            <a:ext cx="410364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50920" y="3786120"/>
            <a:ext cx="1439640" cy="441360"/>
          </a:xfrm>
          <a:prstGeom prst="wedgeRoundRectCallout">
            <a:avLst>
              <a:gd name="adj1" fmla="val 90023"/>
              <a:gd name="adj2" fmla="val 2941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known_hosts”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チェッ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ログインシーケンス（続き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909800" y="333360"/>
            <a:ext cx="93672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148360" y="333360"/>
            <a:ext cx="93636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26836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43564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68360" y="11970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2268360" y="1557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5280" y="690480"/>
            <a:ext cx="1440000" cy="441360"/>
          </a:xfrm>
          <a:prstGeom prst="wedgeRoundRectCallout">
            <a:avLst>
              <a:gd name="adj1" fmla="val 80097"/>
              <a:gd name="adj2" fmla="val 6575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リストの要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e”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メソッ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627280" y="9050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627280" y="126828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USERAUTH_FAIL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700360" y="170028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68360" y="19861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1628640"/>
            <a:ext cx="1440000" cy="428760"/>
          </a:xfrm>
          <a:prstGeom prst="wedgeRoundRectCallout">
            <a:avLst>
              <a:gd name="adj1" fmla="val 80097"/>
              <a:gd name="adj2" fmla="val 3241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ユーザ名とパスワードを送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700360" y="212868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USERAUTH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2268360" y="24145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24000" y="2200320"/>
            <a:ext cx="1439640" cy="368280"/>
          </a:xfrm>
          <a:prstGeom prst="wedgeRoundRectCallout">
            <a:avLst>
              <a:gd name="adj1" fmla="val 81754"/>
              <a:gd name="adj2" fmla="val 242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成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700360" y="256536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OP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268360" y="28512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95280" y="2637000"/>
            <a:ext cx="1440000" cy="357120"/>
          </a:xfrm>
          <a:prstGeom prst="wedgeRoundRectCallout">
            <a:avLst>
              <a:gd name="adj1" fmla="val 81754"/>
              <a:gd name="adj2" fmla="val 242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セッションオープ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ssion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340000" y="2924280"/>
            <a:ext cx="30956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OPEN_CONFI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268360" y="32083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700360" y="399888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268360" y="42847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5280" y="3998880"/>
            <a:ext cx="1440000" cy="357120"/>
          </a:xfrm>
          <a:prstGeom prst="wedgeRoundRectCallout">
            <a:avLst>
              <a:gd name="adj1" fmla="val 77893"/>
              <a:gd name="adj2" fmla="val 2532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シェルリクエス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ty-req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700360" y="435600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2268360" y="46544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771640" y="4726080"/>
            <a:ext cx="2449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268360" y="50115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95280" y="4726080"/>
            <a:ext cx="1440000" cy="357120"/>
          </a:xfrm>
          <a:prstGeom prst="wedgeRoundRectCallout">
            <a:avLst>
              <a:gd name="adj1" fmla="val 77893"/>
              <a:gd name="adj2" fmla="val 2532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シェルオープ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ell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2268360" y="54403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484360" y="5154480"/>
            <a:ext cx="280836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WINDOW_ADJU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796000" y="4940280"/>
            <a:ext cx="1800360" cy="571680"/>
          </a:xfrm>
          <a:prstGeom prst="wedgeRoundRectCallout">
            <a:avLst>
              <a:gd name="adj1" fmla="val -68342"/>
              <a:gd name="adj2" fmla="val 3928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のウィンドウサイズを送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700360" y="551196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2268360" y="57974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700360" y="594036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2268360" y="6237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724360" y="5797440"/>
            <a:ext cx="1800360" cy="511200"/>
          </a:xfrm>
          <a:prstGeom prst="wedgeRoundRectCallout">
            <a:avLst>
              <a:gd name="adj1" fmla="val -68342"/>
              <a:gd name="adj2" fmla="val 3773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シェル情報を送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403280" y="6165720"/>
            <a:ext cx="792360" cy="142920"/>
          </a:xfrm>
          <a:prstGeom prst="leftArrow">
            <a:avLst>
              <a:gd name="adj1" fmla="val 50000"/>
              <a:gd name="adj2" fmla="val 138602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79280" y="5297400"/>
            <a:ext cx="1440000" cy="714600"/>
          </a:xfrm>
          <a:prstGeom prst="wedgeRoundRectCallout">
            <a:avLst>
              <a:gd name="adj1" fmla="val 33902"/>
              <a:gd name="adj2" fmla="val 7444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本体へ渡す。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見えには、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cv()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が返ったように見え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796000" y="905040"/>
            <a:ext cx="2808360" cy="583920"/>
          </a:xfrm>
          <a:prstGeom prst="wedgeRoundRectCallout">
            <a:avLst>
              <a:gd name="adj1" fmla="val -54185"/>
              <a:gd name="adj2" fmla="val 1575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CheckAuthListFirs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が有効なと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無効なときは、クライアントはユーザ操作による認証失敗により認証リストを得られる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08720" y="976320"/>
            <a:ext cx="152280" cy="652320"/>
          </a:xfrm>
          <a:custGeom>
            <a:avLst/>
            <a:gdLst>
              <a:gd name="textAreaLeft" fmla="*/ 0 w 152280"/>
              <a:gd name="textAreaRight" fmla="*/ 55080 w 152280"/>
              <a:gd name="textAreaTop" fmla="*/ 16920 h 652320"/>
              <a:gd name="textAreaBottom" fmla="*/ 635400 h 652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508720" y="1773360"/>
            <a:ext cx="142920" cy="784080"/>
          </a:xfrm>
          <a:custGeom>
            <a:avLst/>
            <a:gdLst>
              <a:gd name="textAreaLeft" fmla="*/ 0 w 142920"/>
              <a:gd name="textAreaRight" fmla="*/ 51480 w 142920"/>
              <a:gd name="textAreaTop" fmla="*/ 20160 h 784080"/>
              <a:gd name="textAreaBottom" fmla="*/ 763920 h 78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96000" y="2703600"/>
            <a:ext cx="1800360" cy="296640"/>
          </a:xfrm>
          <a:prstGeom prst="wedgeRoundRectCallout">
            <a:avLst>
              <a:gd name="adj1" fmla="val -59083"/>
              <a:gd name="adj2" fmla="val -23395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ssword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の場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00360" y="32846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SH2_MSG_CHANNEL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268360" y="35701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95280" y="3213000"/>
            <a:ext cx="1440000" cy="576360"/>
          </a:xfrm>
          <a:prstGeom prst="wedgeRoundRectCallout">
            <a:avLst>
              <a:gd name="adj1" fmla="val 80759"/>
              <a:gd name="adj2" fmla="val 1115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エージェント転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"auth-agent-req@openssh.com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700360" y="363852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2268360" y="3924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508720" y="3429000"/>
            <a:ext cx="142920" cy="647640"/>
          </a:xfrm>
          <a:custGeom>
            <a:avLst/>
            <a:gdLst>
              <a:gd name="textAreaLeft" fmla="*/ 0 w 142920"/>
              <a:gd name="textAreaRight" fmla="*/ 51480 w 142920"/>
              <a:gd name="textAreaTop" fmla="*/ 16560 h 647640"/>
              <a:gd name="textAreaBottom" fmla="*/ 6310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796000" y="4141800"/>
            <a:ext cx="1871640" cy="297000"/>
          </a:xfrm>
          <a:prstGeom prst="wedgeRoundRectCallout">
            <a:avLst>
              <a:gd name="adj1" fmla="val -57717"/>
              <a:gd name="adj2" fmla="val -18262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ForwardAgen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が有効なと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372360" y="1773360"/>
            <a:ext cx="1800000" cy="571320"/>
          </a:xfrm>
          <a:prstGeom prst="wedgeRoundRectCallout">
            <a:avLst>
              <a:gd name="adj1" fmla="val -102379"/>
              <a:gd name="adj2" fmla="val -9000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リストの送信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ailure”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を返すがサーバにはログは残らな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切断シーケン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909800" y="333360"/>
            <a:ext cx="93672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148360" y="333360"/>
            <a:ext cx="93636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26836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43564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268360" y="12034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2268360" y="16318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95280" y="833400"/>
            <a:ext cx="1440000" cy="441360"/>
          </a:xfrm>
          <a:prstGeom prst="wedgeRoundRectCallout">
            <a:avLst>
              <a:gd name="adj1" fmla="val 80097"/>
              <a:gd name="adj2" fmla="val 3241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シェル上でログアウトす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627280" y="9050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627280" y="13460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CHANNEL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27280" y="177480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CHANNEL_EO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2268360" y="20606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627280" y="22748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CHANNEL_CLO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268360" y="25606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627280" y="270360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2268360" y="30002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08000" y="2060640"/>
            <a:ext cx="1439640" cy="868320"/>
          </a:xfrm>
          <a:prstGeom prst="wedgeRoundRectCallout">
            <a:avLst>
              <a:gd name="adj1" fmla="val 47023"/>
              <a:gd name="adj2" fmla="val 6194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セッションのクローズ処理を行う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本体へ終了の通知を出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476360" y="3000240"/>
            <a:ext cx="792000" cy="142920"/>
          </a:xfrm>
          <a:prstGeom prst="leftArrow">
            <a:avLst>
              <a:gd name="adj1" fmla="val 50000"/>
              <a:gd name="adj2" fmla="val 13853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maya</cp:lastModifiedBy>
  <dcterms:modified xsi:type="dcterms:W3CDTF">2008-12-03T08:01:51Z</dcterms:modified>
  <cp:revision>321</cp:revision>
  <dc:subject/>
  <dc:title>DDEのしくみ</dc:title>
</cp:coreProperties>
</file>